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4.pct" ContentType="image/x-pict"/>
  <Override PartName="/ppt/media/image1.pct" ContentType="image/x-pict"/>
  <Override PartName="/ppt/media/image31.pct" ContentType="image/x-pict"/>
  <Override PartName="/ppt/media/image25.pct" ContentType="image/x-pict"/>
  <Override PartName="/ppt/media/image12.pct" ContentType="image/x-pict"/>
  <Override PartName="/ppt/media/image1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9.pct" ContentType="image/x-pict"/>
  <Override PartName="/ppt/media/image39.pct" ContentType="image/x-pict"/>
  <Override PartName="/ppt/media/image41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43.pct" ContentType="image/x-pict"/>
  <Override PartName="/ppt/media/image44.pct" ContentType="image/x-pict"/>
  <Override PartName="/ppt/media/image37.pct" ContentType="image/x-pict"/>
  <Override PartName="/ppt/media/image7.pct" ContentType="image/x-pict"/>
  <Override PartName="/ppt/media/image2.pct" ContentType="image/x-pict"/>
  <Override PartName="/ppt/media/image32.pct" ContentType="image/x-pict"/>
  <Override PartName="/ppt/media/image11.pct" ContentType="image/x-pict"/>
  <Override PartName="/ppt/media/image36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179-5593-4C74-9D2D-8A6CAFFF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6C5-3A92-4986-8648-846B1A1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4EE-EBED-4737-9FA2-0EC19EFF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29F-E733-49A3-AF80-207C07DA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8761-70A3-4338-BF6A-812333ED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57BF-7C56-4E90-A253-20A153E0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7FC-E286-46F2-B167-438E5BB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E126-23A9-415F-8C27-DA6E0A3E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4B3D-3A93-462E-B95E-9066CC98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846E-F139-445F-8293-FD119F0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1499-9C53-4A86-9857-F58E84F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00E-88C8-4E29-9CB0-574BC2ED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164E-F89B-493D-8D47-1951A43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D168-4C1C-437D-AFE8-571783C7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96F4-D933-4FDC-AACA-6BB23873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149-5381-44CD-9DCF-CC745395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D49F-ACA9-4CA7-8F32-BF9109EB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4AA-7AD9-4DCA-9781-CC8ABA76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764-1C18-4172-80A2-7F940514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4FD-F366-4DD8-87DD-D85D4221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406-DD56-44CE-BCB3-DCC623AB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8469-2B5B-4B7C-96C3-66BF9BC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1C5-7B9E-47D0-A817-E24BFCF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DB97-536C-4108-A6E8-0121865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819-DE71-49F4-A391-A7656A1F4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A2A3-2DA7-4417-8042-5944B7E4497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ct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ct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ct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ct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ct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ct"/><Relationship Id="rId5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ct"/><Relationship Id="rId5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ct"/><Relationship Id="rId5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ct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4956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Evaluating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Variable </a:t>
            </a:r>
            <a:br>
              <a:rPr sz="8300"/>
            </a:b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Expressions</a:t>
            </a:r>
            <a:endParaRPr b="0" lang="en-US" sz="8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19320" y="533520"/>
          <a:ext cx="683244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683244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919080" y="3884760"/>
          <a:ext cx="488016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884760"/>
                    <a:ext cx="488016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4038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86040" y="914400"/>
            <a:ext cx="6234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Station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1280" y="4419720"/>
            <a:ext cx="6345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a=6    b =3    c =8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066680" y="380880"/>
          <a:ext cx="504360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880"/>
                    <a:ext cx="50436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295280" y="3733920"/>
          <a:ext cx="54486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733920"/>
                    <a:ext cx="54486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28600" y="609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038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371600" y="228600"/>
          <a:ext cx="3497400" cy="26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34974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09600" y="4618080"/>
          <a:ext cx="610056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600" y="4618080"/>
                    <a:ext cx="6100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657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290600" y="461880"/>
          <a:ext cx="479916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461880"/>
                    <a:ext cx="479916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1325520" y="3886200"/>
          <a:ext cx="4067280" cy="25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5520" y="3886200"/>
                    <a:ext cx="40672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962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86040" y="914400"/>
            <a:ext cx="645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Whiteboard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39040" y="4419720"/>
            <a:ext cx="5313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X = 4       y = 3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798480" y="4537080"/>
          <a:ext cx="512460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4537080"/>
                    <a:ext cx="512460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609480" y="0"/>
          <a:ext cx="2602080" cy="25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0"/>
                    <a:ext cx="26020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041480" y="4537080"/>
          <a:ext cx="463716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4537080"/>
                    <a:ext cx="46371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69880" y="649440"/>
          <a:ext cx="26830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880" y="649440"/>
                    <a:ext cx="26830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01880" y="4416480"/>
          <a:ext cx="471780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4416480"/>
                    <a:ext cx="47178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38080" y="685800"/>
          <a:ext cx="406584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685800"/>
                    <a:ext cx="40658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85800" y="3809880"/>
          <a:ext cx="349740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9880"/>
                    <a:ext cx="3497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28600" y="228600"/>
          <a:ext cx="471636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"/>
                    <a:ext cx="47163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47242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Evaluate</a:t>
            </a:r>
            <a:r>
              <a:rPr b="0" lang="en-US" sz="4700" spc="-1" strike="noStrike">
                <a:solidFill>
                  <a:srgbClr val="333399"/>
                </a:solidFill>
                <a:latin typeface="Arial"/>
              </a:rPr>
              <a:t> means to replace the variable with a known value ( a number) and use PEMDAS to simplify.  </a:t>
            </a:r>
            <a:br>
              <a:rPr sz="4700"/>
            </a:br>
            <a:endParaRPr b="0" lang="en-US" sz="47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86040" y="914400"/>
            <a:ext cx="645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Extra Practice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1680" y="4343400"/>
            <a:ext cx="4830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m = 8    p =2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85800" y="4191120"/>
          <a:ext cx="577548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5775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838080" y="228600"/>
          <a:ext cx="3252960" cy="26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"/>
                    <a:ext cx="32529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228600" y="4038480"/>
          <a:ext cx="813420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038480"/>
                    <a:ext cx="81342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447920" y="762120"/>
          <a:ext cx="512280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762120"/>
                    <a:ext cx="512280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87600" y="46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6040" y="914400"/>
            <a:ext cx="6453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Extra Practice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Use these values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53960" y="43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39400" y="4495680"/>
            <a:ext cx="46126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a = 3   b = 5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057400" y="4495680"/>
          <a:ext cx="390528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495680"/>
                    <a:ext cx="39052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438280" y="762120"/>
          <a:ext cx="325296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762120"/>
                    <a:ext cx="32529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09480" y="3886200"/>
          <a:ext cx="33354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33354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762120" y="0"/>
          <a:ext cx="2195280" cy="25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0"/>
                    <a:ext cx="219528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066680" y="4191120"/>
          <a:ext cx="536904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191120"/>
                    <a:ext cx="5369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990720" y="838080"/>
          <a:ext cx="6180120" cy="10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838080"/>
                    <a:ext cx="61801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1752480" y="4343400"/>
          <a:ext cx="374184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343400"/>
                    <a:ext cx="374184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447920" y="838080"/>
          <a:ext cx="487836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838080"/>
                    <a:ext cx="48783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4191120"/>
          <a:ext cx="561348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91120"/>
                    <a:ext cx="561348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371600" y="990720"/>
          <a:ext cx="512280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990720"/>
                    <a:ext cx="51228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04920" y="4267080"/>
          <a:ext cx="797220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267080"/>
                    <a:ext cx="797220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380880" y="914400"/>
          <a:ext cx="8382240" cy="11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914400"/>
                    <a:ext cx="838224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219320" y="304920"/>
          <a:ext cx="14634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14634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420920" y="254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029200" y="914400"/>
          <a:ext cx="3171960" cy="12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14400"/>
                    <a:ext cx="31719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371600" y="228600"/>
          <a:ext cx="18702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18702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3520" y="3657600"/>
          <a:ext cx="3578040" cy="26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657600"/>
                    <a:ext cx="357804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371600" y="380880"/>
          <a:ext cx="463536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46353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886200"/>
          <a:ext cx="5043600" cy="25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86200"/>
                    <a:ext cx="50436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7339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29000" y="1828800"/>
            <a:ext cx="32004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7880" y="914400"/>
            <a:ext cx="8382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Group Activity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33399"/>
                </a:solidFill>
                <a:latin typeface="Arial"/>
              </a:rPr>
              <a:t>Evaluating Expression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914400" y="0"/>
          <a:ext cx="66690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66690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8080" y="5105520"/>
          <a:ext cx="626292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105520"/>
                    <a:ext cx="626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4920" y="6094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1148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057400" y="533520"/>
          <a:ext cx="317196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33520"/>
                    <a:ext cx="31719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3733920"/>
          <a:ext cx="601812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60181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038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0"/>
          <a:ext cx="203364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203364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657600"/>
          <a:ext cx="569268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657600"/>
                    <a:ext cx="56926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57200" y="914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9625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13:41Z</dcterms:created>
  <dc:creator>PA Department of Education</dc:creator>
  <dc:description/>
  <dc:language>en-US</dc:language>
  <cp:lastModifiedBy>Parkland High School</cp:lastModifiedBy>
  <cp:lastPrinted>2010-10-04T18:40:41Z</cp:lastPrinted>
  <dcterms:modified xsi:type="dcterms:W3CDTF">2010-10-04T18:43:26Z</dcterms:modified>
  <cp:revision>42</cp:revision>
  <dc:subject/>
  <dc:title>Language of Algebra </dc:title>
</cp:coreProperties>
</file>